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AAC-38DE-4B94-89B0-ABA22DE7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D6C-41D4-43CB-B9F5-B973A480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421-69A7-438F-A5FD-14E4244C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24CF-CCD2-4AC7-84E6-6692977C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1951-4FB5-40C4-85BE-0110B482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A16F-A4F0-462C-ACC1-DB17F27A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F2B5-7BDD-472B-9CB0-CE3C1010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E17D-DC8B-436C-94A3-B0D86CD4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29EF-E85C-4321-8C35-5D0BBADC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96AD-DA25-4FD7-8A68-DC246AC5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E164-3244-49AC-B09B-382A7E6C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16A6-9EA8-4CDD-B6E6-CFED367F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FFF7-2E67-44BC-9F1C-3179044F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2F28-A109-47FE-A8DE-13157BDB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84FE-6D48-46E0-B410-41D887E6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1643-BB15-4C14-8A7E-35B596C3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C33A-0AB7-4A93-BDAE-BC218DED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AC2-37B3-4A30-A223-DE738079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725-7FA1-4B63-A682-DCFAC251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776-651A-4688-896E-2F471742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012-9412-4F7C-86EA-75D86982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401-5945-4CA7-B0F8-E05743BA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CB9-E465-46B4-BEE7-E5B2E23C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069-6C34-40B6-9F9C-431EA188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/>
              <a:ahLst/>
              <a:rect l="l" t="t" r="r" b="b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/>
              <a:ahLst/>
              <a:rect l="l" t="t" r="r" b="b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/>
              <a:ahLst/>
              <a:rect l="l" t="t" r="r" b="b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/>
                <a:ahLst/>
                <a:rect l="l" t="t" r="r" b="b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/>
                <a:ahLst/>
                <a:rect l="l" t="t" r="r" b="b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/>
                <a:ahLst/>
                <a:rect l="l" t="t" r="r" b="b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1ECD-68E4-402A-B989-7277243F6AD5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50" name=""/>
            <p:cNvSpPr/>
            <p:nvPr/>
          </p:nvSpPr>
          <p:spPr>
            <a:xfrm>
              <a:off x="3164040" y="0"/>
              <a:ext cx="5979960" cy="3238560"/>
            </a:xfrm>
            <a:custGeom>
              <a:avLst/>
              <a:gdLst/>
              <a:ahLst/>
              <a:rect l="l" t="t" r="r" b="b"/>
              <a:pathLst>
                <a:path w="3767" h="2040">
                  <a:moveTo>
                    <a:pt x="487" y="1294"/>
                  </a:moveTo>
                  <a:lnTo>
                    <a:pt x="452" y="1345"/>
                  </a:lnTo>
                  <a:lnTo>
                    <a:pt x="418" y="1408"/>
                  </a:lnTo>
                  <a:lnTo>
                    <a:pt x="397" y="1466"/>
                  </a:lnTo>
                  <a:lnTo>
                    <a:pt x="390" y="1536"/>
                  </a:lnTo>
                  <a:lnTo>
                    <a:pt x="390" y="1604"/>
                  </a:lnTo>
                  <a:lnTo>
                    <a:pt x="404" y="1693"/>
                  </a:lnTo>
                  <a:lnTo>
                    <a:pt x="438" y="1754"/>
                  </a:lnTo>
                  <a:lnTo>
                    <a:pt x="487" y="1820"/>
                  </a:lnTo>
                  <a:lnTo>
                    <a:pt x="585" y="1927"/>
                  </a:lnTo>
                  <a:lnTo>
                    <a:pt x="675" y="1975"/>
                  </a:lnTo>
                  <a:lnTo>
                    <a:pt x="773" y="2007"/>
                  </a:lnTo>
                  <a:lnTo>
                    <a:pt x="853" y="2025"/>
                  </a:lnTo>
                  <a:lnTo>
                    <a:pt x="954" y="2036"/>
                  </a:lnTo>
                  <a:lnTo>
                    <a:pt x="1066" y="2039"/>
                  </a:lnTo>
                  <a:lnTo>
                    <a:pt x="1194" y="2034"/>
                  </a:lnTo>
                  <a:lnTo>
                    <a:pt x="1295" y="2020"/>
                  </a:lnTo>
                  <a:lnTo>
                    <a:pt x="1410" y="1993"/>
                  </a:lnTo>
                  <a:lnTo>
                    <a:pt x="1518" y="1950"/>
                  </a:lnTo>
                  <a:lnTo>
                    <a:pt x="1619" y="1897"/>
                  </a:lnTo>
                  <a:lnTo>
                    <a:pt x="1741" y="1807"/>
                  </a:lnTo>
                  <a:lnTo>
                    <a:pt x="1811" y="1750"/>
                  </a:lnTo>
                  <a:lnTo>
                    <a:pt x="1881" y="1693"/>
                  </a:lnTo>
                  <a:lnTo>
                    <a:pt x="1950" y="1616"/>
                  </a:lnTo>
                  <a:lnTo>
                    <a:pt x="2006" y="1551"/>
                  </a:lnTo>
                  <a:lnTo>
                    <a:pt x="2055" y="1479"/>
                  </a:lnTo>
                  <a:lnTo>
                    <a:pt x="2114" y="1408"/>
                  </a:lnTo>
                  <a:lnTo>
                    <a:pt x="2177" y="1350"/>
                  </a:lnTo>
                  <a:lnTo>
                    <a:pt x="2243" y="1297"/>
                  </a:lnTo>
                  <a:lnTo>
                    <a:pt x="2327" y="1241"/>
                  </a:lnTo>
                  <a:lnTo>
                    <a:pt x="2424" y="1195"/>
                  </a:lnTo>
                  <a:lnTo>
                    <a:pt x="2532" y="1158"/>
                  </a:lnTo>
                  <a:lnTo>
                    <a:pt x="2637" y="1127"/>
                  </a:lnTo>
                  <a:lnTo>
                    <a:pt x="2738" y="1104"/>
                  </a:lnTo>
                  <a:lnTo>
                    <a:pt x="2860" y="1086"/>
                  </a:lnTo>
                  <a:lnTo>
                    <a:pt x="2982" y="1083"/>
                  </a:lnTo>
                  <a:lnTo>
                    <a:pt x="3107" y="1082"/>
                  </a:lnTo>
                  <a:lnTo>
                    <a:pt x="3428" y="1095"/>
                  </a:lnTo>
                  <a:lnTo>
                    <a:pt x="3766" y="1151"/>
                  </a:lnTo>
                  <a:lnTo>
                    <a:pt x="3766" y="912"/>
                  </a:lnTo>
                  <a:lnTo>
                    <a:pt x="2856" y="0"/>
                  </a:lnTo>
                  <a:lnTo>
                    <a:pt x="0" y="0"/>
                  </a:lnTo>
                  <a:lnTo>
                    <a:pt x="487" y="1294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93960" y="1935000"/>
              <a:ext cx="1616400" cy="1084320"/>
            </a:xfrm>
            <a:custGeom>
              <a:avLst/>
              <a:gdLst/>
              <a:ahLst/>
              <a:rect l="l" t="t" r="r" b="b"/>
              <a:pathLst>
                <a:path w="1018" h="683">
                  <a:moveTo>
                    <a:pt x="1017" y="220"/>
                  </a:moveTo>
                  <a:lnTo>
                    <a:pt x="1003" y="273"/>
                  </a:lnTo>
                  <a:lnTo>
                    <a:pt x="978" y="306"/>
                  </a:lnTo>
                  <a:lnTo>
                    <a:pt x="933" y="329"/>
                  </a:lnTo>
                  <a:lnTo>
                    <a:pt x="881" y="344"/>
                  </a:lnTo>
                  <a:lnTo>
                    <a:pt x="808" y="351"/>
                  </a:lnTo>
                  <a:lnTo>
                    <a:pt x="710" y="348"/>
                  </a:lnTo>
                  <a:lnTo>
                    <a:pt x="595" y="344"/>
                  </a:lnTo>
                  <a:lnTo>
                    <a:pt x="505" y="351"/>
                  </a:lnTo>
                  <a:lnTo>
                    <a:pt x="428" y="361"/>
                  </a:lnTo>
                  <a:lnTo>
                    <a:pt x="369" y="377"/>
                  </a:lnTo>
                  <a:lnTo>
                    <a:pt x="319" y="393"/>
                  </a:lnTo>
                  <a:lnTo>
                    <a:pt x="271" y="423"/>
                  </a:lnTo>
                  <a:lnTo>
                    <a:pt x="240" y="454"/>
                  </a:lnTo>
                  <a:lnTo>
                    <a:pt x="208" y="508"/>
                  </a:lnTo>
                  <a:lnTo>
                    <a:pt x="198" y="556"/>
                  </a:lnTo>
                  <a:lnTo>
                    <a:pt x="202" y="606"/>
                  </a:lnTo>
                  <a:lnTo>
                    <a:pt x="221" y="682"/>
                  </a:lnTo>
                  <a:lnTo>
                    <a:pt x="156" y="611"/>
                  </a:lnTo>
                  <a:lnTo>
                    <a:pt x="107" y="547"/>
                  </a:lnTo>
                  <a:lnTo>
                    <a:pt x="69" y="486"/>
                  </a:lnTo>
                  <a:lnTo>
                    <a:pt x="33" y="400"/>
                  </a:lnTo>
                  <a:lnTo>
                    <a:pt x="17" y="327"/>
                  </a:lnTo>
                  <a:lnTo>
                    <a:pt x="2" y="248"/>
                  </a:lnTo>
                  <a:lnTo>
                    <a:pt x="0" y="173"/>
                  </a:lnTo>
                  <a:lnTo>
                    <a:pt x="3" y="111"/>
                  </a:lnTo>
                  <a:lnTo>
                    <a:pt x="49" y="90"/>
                  </a:lnTo>
                  <a:lnTo>
                    <a:pt x="126" y="66"/>
                  </a:lnTo>
                  <a:lnTo>
                    <a:pt x="219" y="41"/>
                  </a:lnTo>
                  <a:lnTo>
                    <a:pt x="320" y="16"/>
                  </a:lnTo>
                  <a:lnTo>
                    <a:pt x="421" y="0"/>
                  </a:lnTo>
                  <a:lnTo>
                    <a:pt x="536" y="0"/>
                  </a:lnTo>
                  <a:lnTo>
                    <a:pt x="637" y="6"/>
                  </a:lnTo>
                  <a:lnTo>
                    <a:pt x="745" y="27"/>
                  </a:lnTo>
                  <a:lnTo>
                    <a:pt x="832" y="52"/>
                  </a:lnTo>
                  <a:lnTo>
                    <a:pt x="881" y="75"/>
                  </a:lnTo>
                  <a:lnTo>
                    <a:pt x="936" y="119"/>
                  </a:lnTo>
                  <a:lnTo>
                    <a:pt x="982" y="173"/>
                  </a:lnTo>
                  <a:lnTo>
                    <a:pt x="1017" y="22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5310360" cy="4726080"/>
            </a:xfrm>
            <a:custGeom>
              <a:avLst/>
              <a:gdLst/>
              <a:ahLst/>
              <a:rect l="l" t="t" r="r" b="b"/>
              <a:pathLst>
                <a:path w="3345" h="2977">
                  <a:moveTo>
                    <a:pt x="0" y="2976"/>
                  </a:moveTo>
                  <a:lnTo>
                    <a:pt x="94" y="2823"/>
                  </a:lnTo>
                  <a:lnTo>
                    <a:pt x="212" y="2678"/>
                  </a:lnTo>
                  <a:lnTo>
                    <a:pt x="320" y="2546"/>
                  </a:lnTo>
                  <a:lnTo>
                    <a:pt x="429" y="2411"/>
                  </a:lnTo>
                  <a:lnTo>
                    <a:pt x="543" y="2296"/>
                  </a:lnTo>
                  <a:lnTo>
                    <a:pt x="662" y="2184"/>
                  </a:lnTo>
                  <a:lnTo>
                    <a:pt x="826" y="2056"/>
                  </a:lnTo>
                  <a:lnTo>
                    <a:pt x="956" y="1958"/>
                  </a:lnTo>
                  <a:lnTo>
                    <a:pt x="1235" y="1785"/>
                  </a:lnTo>
                  <a:lnTo>
                    <a:pt x="1512" y="1642"/>
                  </a:lnTo>
                  <a:lnTo>
                    <a:pt x="1783" y="1532"/>
                  </a:lnTo>
                  <a:lnTo>
                    <a:pt x="2040" y="1429"/>
                  </a:lnTo>
                  <a:lnTo>
                    <a:pt x="2323" y="1331"/>
                  </a:lnTo>
                  <a:lnTo>
                    <a:pt x="2434" y="1292"/>
                  </a:lnTo>
                  <a:lnTo>
                    <a:pt x="2556" y="1255"/>
                  </a:lnTo>
                  <a:lnTo>
                    <a:pt x="2657" y="1228"/>
                  </a:lnTo>
                  <a:lnTo>
                    <a:pt x="2769" y="1217"/>
                  </a:lnTo>
                  <a:lnTo>
                    <a:pt x="2866" y="1212"/>
                  </a:lnTo>
                  <a:lnTo>
                    <a:pt x="2971" y="1224"/>
                  </a:lnTo>
                  <a:lnTo>
                    <a:pt x="3058" y="1240"/>
                  </a:lnTo>
                  <a:lnTo>
                    <a:pt x="3138" y="1267"/>
                  </a:lnTo>
                  <a:lnTo>
                    <a:pt x="3215" y="1304"/>
                  </a:lnTo>
                  <a:lnTo>
                    <a:pt x="3284" y="1360"/>
                  </a:lnTo>
                  <a:lnTo>
                    <a:pt x="3344" y="1437"/>
                  </a:lnTo>
                  <a:lnTo>
                    <a:pt x="3340" y="1362"/>
                  </a:lnTo>
                  <a:lnTo>
                    <a:pt x="3330" y="1310"/>
                  </a:lnTo>
                  <a:lnTo>
                    <a:pt x="3305" y="1242"/>
                  </a:lnTo>
                  <a:lnTo>
                    <a:pt x="3270" y="1185"/>
                  </a:lnTo>
                  <a:lnTo>
                    <a:pt x="3229" y="1133"/>
                  </a:lnTo>
                  <a:lnTo>
                    <a:pt x="3183" y="1082"/>
                  </a:lnTo>
                  <a:lnTo>
                    <a:pt x="2187" y="0"/>
                  </a:lnTo>
                  <a:lnTo>
                    <a:pt x="0" y="0"/>
                  </a:lnTo>
                  <a:lnTo>
                    <a:pt x="0" y="2976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54" name=""/>
              <p:cNvSpPr/>
              <p:nvPr/>
            </p:nvSpPr>
            <p:spPr>
              <a:xfrm>
                <a:off x="0" y="0"/>
                <a:ext cx="3675240" cy="1378080"/>
              </a:xfrm>
              <a:custGeom>
                <a:avLst/>
                <a:gdLst/>
                <a:ahLst/>
                <a:rect l="l" t="t" r="r" b="b"/>
                <a:pathLst>
                  <a:path w="2315" h="868">
                    <a:moveTo>
                      <a:pt x="0" y="558"/>
                    </a:moveTo>
                    <a:lnTo>
                      <a:pt x="125" y="487"/>
                    </a:lnTo>
                    <a:lnTo>
                      <a:pt x="261" y="414"/>
                    </a:lnTo>
                    <a:lnTo>
                      <a:pt x="426" y="329"/>
                    </a:lnTo>
                    <a:lnTo>
                      <a:pt x="573" y="263"/>
                    </a:lnTo>
                    <a:lnTo>
                      <a:pt x="739" y="200"/>
                    </a:lnTo>
                    <a:lnTo>
                      <a:pt x="888" y="150"/>
                    </a:lnTo>
                    <a:lnTo>
                      <a:pt x="1081" y="94"/>
                    </a:lnTo>
                    <a:lnTo>
                      <a:pt x="1227" y="54"/>
                    </a:lnTo>
                    <a:lnTo>
                      <a:pt x="1349" y="29"/>
                    </a:lnTo>
                    <a:lnTo>
                      <a:pt x="1461" y="9"/>
                    </a:lnTo>
                    <a:lnTo>
                      <a:pt x="1614" y="4"/>
                    </a:lnTo>
                    <a:lnTo>
                      <a:pt x="2188" y="0"/>
                    </a:lnTo>
                    <a:lnTo>
                      <a:pt x="2314" y="133"/>
                    </a:lnTo>
                    <a:lnTo>
                      <a:pt x="2144" y="133"/>
                    </a:lnTo>
                    <a:lnTo>
                      <a:pt x="1982" y="141"/>
                    </a:lnTo>
                    <a:lnTo>
                      <a:pt x="1809" y="158"/>
                    </a:lnTo>
                    <a:lnTo>
                      <a:pt x="1669" y="179"/>
                    </a:lnTo>
                    <a:lnTo>
                      <a:pt x="1512" y="211"/>
                    </a:lnTo>
                    <a:lnTo>
                      <a:pt x="1378" y="241"/>
                    </a:lnTo>
                    <a:lnTo>
                      <a:pt x="1237" y="280"/>
                    </a:lnTo>
                    <a:lnTo>
                      <a:pt x="1111" y="322"/>
                    </a:lnTo>
                    <a:lnTo>
                      <a:pt x="1028" y="350"/>
                    </a:lnTo>
                    <a:lnTo>
                      <a:pt x="849" y="408"/>
                    </a:lnTo>
                    <a:lnTo>
                      <a:pt x="650" y="483"/>
                    </a:lnTo>
                    <a:lnTo>
                      <a:pt x="470" y="566"/>
                    </a:lnTo>
                    <a:lnTo>
                      <a:pt x="266" y="675"/>
                    </a:lnTo>
                    <a:lnTo>
                      <a:pt x="151" y="741"/>
                    </a:lnTo>
                    <a:lnTo>
                      <a:pt x="62" y="808"/>
                    </a:lnTo>
                    <a:lnTo>
                      <a:pt x="0" y="867"/>
                    </a:lnTo>
                    <a:lnTo>
                      <a:pt x="0" y="558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455760"/>
                <a:ext cx="4487760" cy="2476440"/>
              </a:xfrm>
              <a:custGeom>
                <a:avLst/>
                <a:gdLst/>
                <a:ahLst/>
                <a:rect l="l" t="t" r="r" b="b"/>
                <a:pathLst>
                  <a:path w="2827" h="1560">
                    <a:moveTo>
                      <a:pt x="0" y="871"/>
                    </a:moveTo>
                    <a:lnTo>
                      <a:pt x="142" y="750"/>
                    </a:lnTo>
                    <a:lnTo>
                      <a:pt x="310" y="621"/>
                    </a:lnTo>
                    <a:lnTo>
                      <a:pt x="464" y="529"/>
                    </a:lnTo>
                    <a:lnTo>
                      <a:pt x="644" y="437"/>
                    </a:lnTo>
                    <a:lnTo>
                      <a:pt x="823" y="354"/>
                    </a:lnTo>
                    <a:lnTo>
                      <a:pt x="1027" y="279"/>
                    </a:lnTo>
                    <a:lnTo>
                      <a:pt x="1231" y="204"/>
                    </a:lnTo>
                    <a:lnTo>
                      <a:pt x="1430" y="145"/>
                    </a:lnTo>
                    <a:lnTo>
                      <a:pt x="1621" y="104"/>
                    </a:lnTo>
                    <a:lnTo>
                      <a:pt x="1801" y="62"/>
                    </a:lnTo>
                    <a:lnTo>
                      <a:pt x="1950" y="29"/>
                    </a:lnTo>
                    <a:lnTo>
                      <a:pt x="2123" y="4"/>
                    </a:lnTo>
                    <a:lnTo>
                      <a:pt x="2262" y="0"/>
                    </a:lnTo>
                    <a:lnTo>
                      <a:pt x="2390" y="1"/>
                    </a:lnTo>
                    <a:lnTo>
                      <a:pt x="2456" y="4"/>
                    </a:lnTo>
                    <a:lnTo>
                      <a:pt x="2826" y="407"/>
                    </a:lnTo>
                    <a:lnTo>
                      <a:pt x="2731" y="389"/>
                    </a:lnTo>
                    <a:lnTo>
                      <a:pt x="2612" y="379"/>
                    </a:lnTo>
                    <a:lnTo>
                      <a:pt x="2502" y="379"/>
                    </a:lnTo>
                    <a:lnTo>
                      <a:pt x="2367" y="391"/>
                    </a:lnTo>
                    <a:lnTo>
                      <a:pt x="2192" y="421"/>
                    </a:lnTo>
                    <a:lnTo>
                      <a:pt x="2080" y="443"/>
                    </a:lnTo>
                    <a:lnTo>
                      <a:pt x="1969" y="471"/>
                    </a:lnTo>
                    <a:lnTo>
                      <a:pt x="1714" y="537"/>
                    </a:lnTo>
                    <a:lnTo>
                      <a:pt x="1460" y="616"/>
                    </a:lnTo>
                    <a:lnTo>
                      <a:pt x="1269" y="691"/>
                    </a:lnTo>
                    <a:lnTo>
                      <a:pt x="1087" y="758"/>
                    </a:lnTo>
                    <a:lnTo>
                      <a:pt x="885" y="862"/>
                    </a:lnTo>
                    <a:lnTo>
                      <a:pt x="668" y="979"/>
                    </a:lnTo>
                    <a:lnTo>
                      <a:pt x="477" y="1104"/>
                    </a:lnTo>
                    <a:lnTo>
                      <a:pt x="347" y="1197"/>
                    </a:lnTo>
                    <a:lnTo>
                      <a:pt x="232" y="1297"/>
                    </a:lnTo>
                    <a:lnTo>
                      <a:pt x="133" y="1396"/>
                    </a:lnTo>
                    <a:lnTo>
                      <a:pt x="0" y="1559"/>
                    </a:lnTo>
                    <a:lnTo>
                      <a:pt x="0" y="871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1322280"/>
                <a:ext cx="5105520" cy="2662200"/>
              </a:xfrm>
              <a:custGeom>
                <a:avLst/>
                <a:gdLst/>
                <a:ahLst/>
                <a:rect l="l" t="t" r="r" b="b"/>
                <a:pathLst>
                  <a:path w="3216" h="1677">
                    <a:moveTo>
                      <a:pt x="0" y="1342"/>
                    </a:moveTo>
                    <a:lnTo>
                      <a:pt x="74" y="1250"/>
                    </a:lnTo>
                    <a:lnTo>
                      <a:pt x="198" y="1110"/>
                    </a:lnTo>
                    <a:lnTo>
                      <a:pt x="321" y="995"/>
                    </a:lnTo>
                    <a:lnTo>
                      <a:pt x="426" y="901"/>
                    </a:lnTo>
                    <a:lnTo>
                      <a:pt x="501" y="835"/>
                    </a:lnTo>
                    <a:lnTo>
                      <a:pt x="588" y="771"/>
                    </a:lnTo>
                    <a:lnTo>
                      <a:pt x="687" y="700"/>
                    </a:lnTo>
                    <a:lnTo>
                      <a:pt x="842" y="608"/>
                    </a:lnTo>
                    <a:lnTo>
                      <a:pt x="1016" y="508"/>
                    </a:lnTo>
                    <a:lnTo>
                      <a:pt x="1226" y="408"/>
                    </a:lnTo>
                    <a:lnTo>
                      <a:pt x="1430" y="316"/>
                    </a:lnTo>
                    <a:lnTo>
                      <a:pt x="1616" y="250"/>
                    </a:lnTo>
                    <a:lnTo>
                      <a:pt x="1821" y="183"/>
                    </a:lnTo>
                    <a:lnTo>
                      <a:pt x="2018" y="125"/>
                    </a:lnTo>
                    <a:lnTo>
                      <a:pt x="2223" y="75"/>
                    </a:lnTo>
                    <a:lnTo>
                      <a:pt x="2427" y="37"/>
                    </a:lnTo>
                    <a:lnTo>
                      <a:pt x="2576" y="16"/>
                    </a:lnTo>
                    <a:lnTo>
                      <a:pt x="2732" y="1"/>
                    </a:lnTo>
                    <a:lnTo>
                      <a:pt x="2854" y="0"/>
                    </a:lnTo>
                    <a:lnTo>
                      <a:pt x="2966" y="9"/>
                    </a:lnTo>
                    <a:lnTo>
                      <a:pt x="3215" y="273"/>
                    </a:lnTo>
                    <a:lnTo>
                      <a:pt x="3109" y="208"/>
                    </a:lnTo>
                    <a:lnTo>
                      <a:pt x="3017" y="175"/>
                    </a:lnTo>
                    <a:lnTo>
                      <a:pt x="2921" y="163"/>
                    </a:lnTo>
                    <a:lnTo>
                      <a:pt x="2836" y="166"/>
                    </a:lnTo>
                    <a:lnTo>
                      <a:pt x="2743" y="172"/>
                    </a:lnTo>
                    <a:lnTo>
                      <a:pt x="2644" y="183"/>
                    </a:lnTo>
                    <a:lnTo>
                      <a:pt x="2526" y="204"/>
                    </a:lnTo>
                    <a:lnTo>
                      <a:pt x="2421" y="225"/>
                    </a:lnTo>
                    <a:lnTo>
                      <a:pt x="2180" y="283"/>
                    </a:lnTo>
                    <a:lnTo>
                      <a:pt x="1907" y="358"/>
                    </a:lnTo>
                    <a:lnTo>
                      <a:pt x="1715" y="425"/>
                    </a:lnTo>
                    <a:lnTo>
                      <a:pt x="1523" y="500"/>
                    </a:lnTo>
                    <a:lnTo>
                      <a:pt x="1300" y="600"/>
                    </a:lnTo>
                    <a:lnTo>
                      <a:pt x="1090" y="708"/>
                    </a:lnTo>
                    <a:lnTo>
                      <a:pt x="873" y="833"/>
                    </a:lnTo>
                    <a:lnTo>
                      <a:pt x="764" y="908"/>
                    </a:lnTo>
                    <a:lnTo>
                      <a:pt x="663" y="983"/>
                    </a:lnTo>
                    <a:lnTo>
                      <a:pt x="488" y="1125"/>
                    </a:lnTo>
                    <a:lnTo>
                      <a:pt x="358" y="1259"/>
                    </a:lnTo>
                    <a:lnTo>
                      <a:pt x="235" y="1392"/>
                    </a:lnTo>
                    <a:lnTo>
                      <a:pt x="108" y="1538"/>
                    </a:lnTo>
                    <a:lnTo>
                      <a:pt x="0" y="1676"/>
                    </a:lnTo>
                    <a:lnTo>
                      <a:pt x="0" y="134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EFD3-D35D-47AB-BCC6-920EFE84743B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A Dividing Nation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ited States History – Chapter 9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9.4 Chronological Order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cument H:  1857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cument G:  1859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cument F:  1860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cument E:  1860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ll of these events created conflict!!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Wrapping Up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trend did your timeline reveal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y were there fewer events that showed compromise as time passed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ccording to this timeline, was the Civil War inevitable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North vs. South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Essential Question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as the Civil War Inevitable?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Reading Note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lently read section 9.1 and find sentences that match details in the picture on page 104.  Create a list of the sentences and details in your note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lently read section 9.2 and complete the map exercis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7240" y="0"/>
            <a:ext cx="7767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imeline Activity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a group of three or four you will create a timeline from 1850-61 that will list key events leading up to the Civil W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timeline will be split by two sides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flict vs. Compromis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timeline will look like this…….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28800" y="533520"/>
            <a:ext cx="5486400" cy="57909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609480"/>
            <a:ext cx="0" cy="586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72680" y="722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40280" y="7221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om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77800" y="18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6400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Reading Notes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ilently read section 9.3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ey Events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promise of 1850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ansas-Nebraska Ac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ncle Tom’s Cabi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leeding Kansa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plete the following in your notes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ist the name and date of the even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de a short description of the even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plete the following as a group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cide whether the event shows a spirit of compromise or conflic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ut the events in sequence from earliest to lates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9.3 Chronological Order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cument B: 1850 - Compromi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cument C: 1852 - Conflic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cument A: 1854 - Compromi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cument D: 1856 - Conflic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Reading Notes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lently read section 9.4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ey Events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red Scott decis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lection of 1860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ohn Brown’s raid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uth Carolina seced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plete the following in your notes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ist the name and date of the even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de a short description of the even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plete the following as a group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cide whether the event shows a spirit of compromise or conflic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ut the events in sequence from earliest to lates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7:37:35Z</dcterms:created>
  <dc:creator> </dc:creator>
  <dc:description/>
  <dc:language>en-US</dc:language>
  <cp:lastModifiedBy>School District U46</cp:lastModifiedBy>
  <dcterms:modified xsi:type="dcterms:W3CDTF">2008-09-04T13:14:46Z</dcterms:modified>
  <cp:revision>8</cp:revision>
  <dc:subject/>
  <dc:title>A Dividing Nation</dc:title>
</cp:coreProperties>
</file>